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11.wmf" ContentType="image/x-wmf"/>
  <Override PartName="/ppt/media/image8.png" ContentType="image/png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</p:sldIdLst>
  <p:sldSz cx="9601200" cy="6858000"/>
  <p:notesSz cx="6951663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951600" cy="92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14640" cy="46188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2"/>
          </p:nvPr>
        </p:nvSpPr>
        <p:spPr>
          <a:xfrm>
            <a:off x="3935520" y="-360"/>
            <a:ext cx="3014640" cy="46188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720" rIns="90720" tIns="45360" bIns="45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3"/>
          </p:nvPr>
        </p:nvSpPr>
        <p:spPr>
          <a:xfrm>
            <a:off x="0" y="8773920"/>
            <a:ext cx="3014640" cy="46188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4"/>
          </p:nvPr>
        </p:nvSpPr>
        <p:spPr>
          <a:xfrm>
            <a:off x="3935520" y="8773920"/>
            <a:ext cx="3014640" cy="46188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b">
            <a:noAutofit/>
          </a:bodyPr>
          <a:lstStyle>
            <a:lvl1pPr indent="0" algn="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A7313664-5447-4DF5-B7C8-45F9F2FFB77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2138C690-C025-49E3-A37D-195583CBE67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F9FE2FBB-F15B-4DAC-9893-2F8A7EC7076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D545959C-32E1-4007-BA51-5C69E0B7E61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90984752-9421-43EA-8116-67EA695B12E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616D30CB-907B-485B-B54C-ACA313A93AB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F5DCBD32-956C-48EB-BC62-FC6FB8269D7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C77835C0-895A-41F0-A60E-58805F50CBF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BE0C175A-CB9C-43D2-A8C6-664ADF4E66A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BBE44799-B21D-4DCB-B673-394F350A9FD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30B5B3F1-6500-4B8E-921F-62F04A9AF0A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ED14DB19-67BE-4B0A-B056-4D1C0E5C4BC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BB581904-A241-42A2-810C-CEE14174E9C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DBD90C51-2055-459B-B39F-DB618E0F6CD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E8C9BEC6-33E4-43F7-9BC7-7D5FB1946E1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1357B82E-ECF1-4225-8EA3-F48622C957D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1FA4C6D2-0D7C-4EC5-A1AC-D9CC2D1BF3A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A29DECEE-6F56-481E-9A00-876D425B66F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EDEB516C-BA6B-4DCB-865B-283F54F5C88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CBCA284B-6440-47B6-AA3B-696AFEF52F9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4958E49A-F8CD-4A8C-B95C-85309E43D1C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D09F812E-6334-42D9-96C3-2CE4E047B7B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DC3C7EF3-49C8-482E-BA0B-AF40BF50264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907F0DD2-5342-41DD-AA68-266EEDEBE52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870D8671-8A24-4E9F-B789-87E12E35875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4EB2D7C1-3853-4056-BA6D-96756C742ED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2CD04C08-BB96-4676-9452-A16EED8D032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4C3C7BB0-2B91-4310-8A79-F31E63B5C9D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C85BD0F8-7D9C-4570-928C-E4D0F8CA97F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DDD35BD5-8446-4557-AC85-0322BFFEA75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8E3E5251-C7CE-4292-A7C5-2EBDB7B0C51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ABB16A0F-3E9F-4D92-AACC-F1799F35225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AE3D561C-DB14-41A7-AD8A-08D666560CB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BCD3C12A-DB03-4FBC-9379-A322BC8EFF0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532C8718-4A86-4D07-9ECA-C580D7A6F2E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F7F248FF-9E33-4BF2-9E46-DD1C00D81D0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9AF28EF8-0E28-4A9C-AFEE-4B2EF7680E2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7DF37D77-595B-40AD-9078-392D4AC40F0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D513D739-8237-4C60-9A8B-F26C82E14A7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4BFE274A-5C8A-4092-A347-916B4290091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7E023767-DCC5-474B-880E-2F405D62325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02BC1F55-D173-4039-9140-03CEF2E1358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51200" y="302760"/>
            <a:ext cx="72626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58680" y="1281240"/>
            <a:ext cx="815832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58680" y="2409480"/>
            <a:ext cx="815832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951200" y="302760"/>
            <a:ext cx="72626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58680" y="1281240"/>
            <a:ext cx="398124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39360" y="1281240"/>
            <a:ext cx="398124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58680" y="2409480"/>
            <a:ext cx="398124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39360" y="2409480"/>
            <a:ext cx="398124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51200" y="302760"/>
            <a:ext cx="72626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58680" y="1281240"/>
            <a:ext cx="262656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7000" y="1281240"/>
            <a:ext cx="262656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75320" y="1281240"/>
            <a:ext cx="262656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58680" y="2409480"/>
            <a:ext cx="262656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7000" y="2409480"/>
            <a:ext cx="262656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75320" y="2409480"/>
            <a:ext cx="262656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51200" y="302760"/>
            <a:ext cx="72626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958680" y="1281240"/>
            <a:ext cx="815832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51200" y="302760"/>
            <a:ext cx="72626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58680" y="1281240"/>
            <a:ext cx="815832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51200" y="302760"/>
            <a:ext cx="72626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58680" y="1281240"/>
            <a:ext cx="398124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39360" y="1281240"/>
            <a:ext cx="398124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51200" y="302760"/>
            <a:ext cx="72626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951200" y="302760"/>
            <a:ext cx="7262640" cy="127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51200" y="302760"/>
            <a:ext cx="72626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58680" y="1281240"/>
            <a:ext cx="398124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39360" y="1281240"/>
            <a:ext cx="398124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958680" y="2409480"/>
            <a:ext cx="398124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51200" y="302760"/>
            <a:ext cx="72626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58680" y="1281240"/>
            <a:ext cx="815832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51200" y="302760"/>
            <a:ext cx="72626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58680" y="1281240"/>
            <a:ext cx="398124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39360" y="1281240"/>
            <a:ext cx="398124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139360" y="2409480"/>
            <a:ext cx="398124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51200" y="302760"/>
            <a:ext cx="72626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58680" y="1281240"/>
            <a:ext cx="398124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39360" y="1281240"/>
            <a:ext cx="398124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58680" y="2409480"/>
            <a:ext cx="815832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51200" y="302760"/>
            <a:ext cx="72626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58680" y="1281240"/>
            <a:ext cx="815832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958680" y="2409480"/>
            <a:ext cx="815832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951200" y="302760"/>
            <a:ext cx="72626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58680" y="1281240"/>
            <a:ext cx="398124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139360" y="1281240"/>
            <a:ext cx="398124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958680" y="2409480"/>
            <a:ext cx="398124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139360" y="2409480"/>
            <a:ext cx="398124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51200" y="302760"/>
            <a:ext cx="72626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58680" y="1281240"/>
            <a:ext cx="262656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17000" y="1281240"/>
            <a:ext cx="262656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475320" y="1281240"/>
            <a:ext cx="262656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958680" y="2409480"/>
            <a:ext cx="262656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717000" y="2409480"/>
            <a:ext cx="262656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475320" y="2409480"/>
            <a:ext cx="262656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51200" y="302760"/>
            <a:ext cx="72626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58680" y="1281240"/>
            <a:ext cx="815832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51200" y="302760"/>
            <a:ext cx="72626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58680" y="1281240"/>
            <a:ext cx="398124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39360" y="1281240"/>
            <a:ext cx="398124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51200" y="302760"/>
            <a:ext cx="72626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951200" y="302760"/>
            <a:ext cx="7262640" cy="127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51200" y="302760"/>
            <a:ext cx="72626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8680" y="1281240"/>
            <a:ext cx="398124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39360" y="1281240"/>
            <a:ext cx="398124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58680" y="2409480"/>
            <a:ext cx="398124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951200" y="302760"/>
            <a:ext cx="72626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8680" y="1281240"/>
            <a:ext cx="398124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39360" y="1281240"/>
            <a:ext cx="398124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39360" y="2409480"/>
            <a:ext cx="398124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51200" y="302760"/>
            <a:ext cx="72626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8680" y="1281240"/>
            <a:ext cx="398124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39360" y="1281240"/>
            <a:ext cx="398124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58680" y="2409480"/>
            <a:ext cx="815832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24" descr=""/>
          <p:cNvPicPr/>
          <p:nvPr/>
        </p:nvPicPr>
        <p:blipFill>
          <a:blip r:embed="rId2"/>
          <a:stretch/>
        </p:blipFill>
        <p:spPr>
          <a:xfrm>
            <a:off x="0" y="0"/>
            <a:ext cx="9602640" cy="9381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951200" y="302760"/>
            <a:ext cx="72626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58680" y="1281240"/>
            <a:ext cx="815832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79720" indent="-279720">
              <a:spcBef>
                <a:spcPts val="876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47280" indent="-260640">
              <a:spcBef>
                <a:spcPts val="876"/>
              </a:spcBef>
              <a:buClr>
                <a:srgbClr val="ff9900"/>
              </a:buClr>
              <a:buFont typeface="Arial"/>
              <a:buChar char="–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05480" indent="-252720">
              <a:spcBef>
                <a:spcPts val="876"/>
              </a:spcBef>
              <a:buClr>
                <a:srgbClr val="ff9900"/>
              </a:buClr>
              <a:buFont typeface="Wingdings" charset="2"/>
              <a:buChar char="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371960" indent="-255960">
              <a:spcBef>
                <a:spcPts val="876"/>
              </a:spcBef>
              <a:buClr>
                <a:srgbClr val="ff9900"/>
              </a:buClr>
              <a:buFont typeface="Arial"/>
              <a:buChar char="­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96840" indent="-301680">
              <a:spcBef>
                <a:spcPts val="876"/>
              </a:spcBef>
              <a:buClr>
                <a:srgbClr val="ff9900"/>
              </a:buClr>
              <a:buFont typeface="Arial"/>
              <a:buChar char="¯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896840" indent="-301680">
              <a:spcBef>
                <a:spcPts val="876"/>
              </a:spcBef>
              <a:buClr>
                <a:srgbClr val="000000"/>
              </a:buClr>
              <a:buFont typeface="Arial"/>
              <a:buChar char="¯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896840" indent="-301680">
              <a:spcBef>
                <a:spcPts val="876"/>
              </a:spcBef>
              <a:buClr>
                <a:srgbClr val="000000"/>
              </a:buClr>
              <a:buFont typeface="Arial"/>
              <a:buChar char="¯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887040" y="6600600"/>
            <a:ext cx="7736040" cy="231840"/>
          </a:xfrm>
          <a:prstGeom prst="rect">
            <a:avLst/>
          </a:prstGeom>
          <a:noFill/>
          <a:ln w="0">
            <a:noFill/>
          </a:ln>
        </p:spPr>
        <p:txBody>
          <a:bodyPr lIns="0" rIns="93960" tIns="47160" bIns="4716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ageRef"/>
          <p:cNvSpPr/>
          <p:nvPr/>
        </p:nvSpPr>
        <p:spPr>
          <a:xfrm>
            <a:off x="8731080" y="6553080"/>
            <a:ext cx="47016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fld id="{7F8D5FAF-C5EB-4A62-84F6-A9896840896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126"/>
          <p:cNvSpPr/>
          <p:nvPr/>
        </p:nvSpPr>
        <p:spPr>
          <a:xfrm>
            <a:off x="914400" y="0"/>
            <a:ext cx="938160" cy="94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127" descr="print_ga"/>
          <p:cNvPicPr/>
          <p:nvPr/>
        </p:nvPicPr>
        <p:blipFill>
          <a:blip r:embed="rId3"/>
          <a:srcRect l="0" t="0" r="0" b="10662"/>
          <a:stretch/>
        </p:blipFill>
        <p:spPr>
          <a:xfrm>
            <a:off x="938160" y="133200"/>
            <a:ext cx="847800" cy="727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Group 251"/>
          <p:cNvGrpSpPr/>
          <p:nvPr/>
        </p:nvGrpSpPr>
        <p:grpSpPr>
          <a:xfrm>
            <a:off x="0" y="0"/>
            <a:ext cx="9602640" cy="6859440"/>
            <a:chOff x="0" y="0"/>
            <a:chExt cx="9602640" cy="6859440"/>
          </a:xfrm>
        </p:grpSpPr>
        <p:pic>
          <p:nvPicPr>
            <p:cNvPr id="44" name="Picture 247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602640" cy="685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Rectangle 249"/>
            <p:cNvSpPr/>
            <p:nvPr/>
          </p:nvSpPr>
          <p:spPr>
            <a:xfrm>
              <a:off x="1228680" y="630360"/>
              <a:ext cx="3103560" cy="823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" name="Picture 250" descr=""/>
            <p:cNvPicPr/>
            <p:nvPr/>
          </p:nvPicPr>
          <p:blipFill>
            <a:blip r:embed="rId3"/>
            <a:srcRect l="12649" t="94194" r="71422" b="0"/>
            <a:stretch/>
          </p:blipFill>
          <p:spPr>
            <a:xfrm>
              <a:off x="1224000" y="6127920"/>
              <a:ext cx="1530360" cy="3981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7" name="Picture 248" descr="print_ga"/>
          <p:cNvPicPr/>
          <p:nvPr/>
        </p:nvPicPr>
        <p:blipFill>
          <a:blip r:embed="rId4"/>
          <a:srcRect l="0" t="0" r="0" b="10631"/>
          <a:stretch/>
        </p:blipFill>
        <p:spPr>
          <a:xfrm>
            <a:off x="1268280" y="225360"/>
            <a:ext cx="1798920" cy="15462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951200" y="302760"/>
            <a:ext cx="72626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58680" y="1281240"/>
            <a:ext cx="815832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79720" indent="-279720">
              <a:spcBef>
                <a:spcPts val="876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47280" indent="-260640">
              <a:spcBef>
                <a:spcPts val="876"/>
              </a:spcBef>
              <a:buClr>
                <a:srgbClr val="ff9900"/>
              </a:buClr>
              <a:buFont typeface="Arial"/>
              <a:buChar char="–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05480" indent="-252720">
              <a:spcBef>
                <a:spcPts val="876"/>
              </a:spcBef>
              <a:buClr>
                <a:srgbClr val="ff9900"/>
              </a:buClr>
              <a:buFont typeface="Wingdings" charset="2"/>
              <a:buChar char="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371960" indent="-255960">
              <a:spcBef>
                <a:spcPts val="876"/>
              </a:spcBef>
              <a:buClr>
                <a:srgbClr val="ff9900"/>
              </a:buClr>
              <a:buFont typeface="Arial"/>
              <a:buChar char="­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96840" indent="-301680">
              <a:spcBef>
                <a:spcPts val="876"/>
              </a:spcBef>
              <a:buClr>
                <a:srgbClr val="ff9900"/>
              </a:buClr>
              <a:buFont typeface="Arial"/>
              <a:buChar char="¯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896840" indent="-301680">
              <a:spcBef>
                <a:spcPts val="876"/>
              </a:spcBef>
              <a:buClr>
                <a:srgbClr val="000000"/>
              </a:buClr>
              <a:buFont typeface="Arial"/>
              <a:buChar char="¯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896840" indent="-301680">
              <a:spcBef>
                <a:spcPts val="876"/>
              </a:spcBef>
              <a:buClr>
                <a:srgbClr val="000000"/>
              </a:buClr>
              <a:buFont typeface="Arial"/>
              <a:buChar char="¯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gaepd.org/Documents/305b.htm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gaepd.org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gaepd.org/NPDES" TargetMode="Externa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gaepd.org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hyperlink" Target="mailto:Frank.Carubba@dnr.state.ga.us" TargetMode="External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3"/>
          <p:cNvSpPr/>
          <p:nvPr/>
        </p:nvSpPr>
        <p:spPr>
          <a:xfrm>
            <a:off x="163440" y="1089000"/>
            <a:ext cx="90759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9900"/>
                </a:solidFill>
                <a:latin typeface="Arial Black"/>
              </a:rPr>
              <a:t>NPDES General Permi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9900"/>
                </a:solidFill>
                <a:latin typeface="Arial Black"/>
              </a:rPr>
              <a:t>For Storm Water Dischar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9900"/>
                </a:solidFill>
                <a:latin typeface="Arial Black"/>
              </a:rPr>
              <a:t>Associated with Construction Activ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339933"/>
                </a:solidFill>
                <a:latin typeface="Arial Black"/>
              </a:rPr>
              <a:t>March 201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Object 4"/>
          <p:cNvGraphicFramePr/>
          <p:nvPr/>
        </p:nvGraphicFramePr>
        <p:xfrm>
          <a:off x="3444840" y="3517920"/>
          <a:ext cx="2575080" cy="233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44840" y="3517920"/>
                    <a:ext cx="2575080" cy="233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49200" y="1172880"/>
            <a:ext cx="895824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Summary of Change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28560" y="1784520"/>
            <a:ext cx="8158320" cy="41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-290520">
              <a:spcBef>
                <a:spcPts val="1500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 I – Coverage under the Permits - Eligibility: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0">
              <a:spcBef>
                <a:spcPts val="751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order to be eligible for this exemption, the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infrastructure maintenance projec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must comply with the following condi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3680">
              <a:spcBef>
                <a:spcPts val="751"/>
              </a:spcBef>
              <a:buClr>
                <a:srgbClr val="ff9900"/>
              </a:buClr>
              <a:buFont typeface="Arial"/>
              <a:buAutoNum type="arabicParenR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 mass grading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3680">
              <a:spcBef>
                <a:spcPts val="751"/>
              </a:spcBef>
              <a:buClr>
                <a:srgbClr val="ff9900"/>
              </a:buClr>
              <a:buFont typeface="Arial"/>
              <a:buAutoNum type="arabicParenR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bilized by the end of each day with temporary or permanent stabilization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3680">
              <a:spcBef>
                <a:spcPts val="751"/>
              </a:spcBef>
              <a:buClr>
                <a:srgbClr val="ff9900"/>
              </a:buClr>
              <a:buFont typeface="Arial"/>
              <a:buAutoNum type="arabicParenR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ject duratio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&lt;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120 calendar day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3680">
              <a:spcBef>
                <a:spcPts val="751"/>
              </a:spcBef>
              <a:buClr>
                <a:srgbClr val="ff9900"/>
              </a:buClr>
              <a:buFont typeface="Arial"/>
              <a:buAutoNum type="arabicParenR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final stabilizati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mplemented at the end of the maintenance project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49200" y="1172880"/>
            <a:ext cx="895824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Summary of Change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28560" y="2009880"/>
            <a:ext cx="8158320" cy="42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-290520">
              <a:spcBef>
                <a:spcPts val="1500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 III –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ischarges into, or within One Mile Upstream of and within the Same Watershed as, Any Portion of a Biota Impaired Strea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f when the </a:t>
            </a:r>
            <a:r>
              <a:rPr b="0" i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Initial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Notice of Intent is submitt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the Impaired Stream Segment has been listed for the criteria violated,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“Bio F” (Impaired Fish Community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/or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“Bio M” (Impaired Macroinvertebrate Community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within Category 4a, 4b or 5, and the potential cause is either “NP” (nonpoint source) or “UR” (urban runoff), </a:t>
            </a:r>
            <a:r>
              <a:rPr b="1" i="1" lang="en-US" sz="2400" spc="-1" strike="noStrike" u="sng">
                <a:solidFill>
                  <a:srgbClr val="339933"/>
                </a:solidFill>
                <a:uFillTx/>
                <a:latin typeface="Arial"/>
              </a:rPr>
              <a:t>the ES&amp;PC Plan must include at least four (4) of the  BMPs listed in Part III.C.2. (a) – (u) of the permi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49200" y="1201680"/>
            <a:ext cx="895824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Arial Black"/>
              </a:rPr>
              <a:t>305(b)/303(d) List Documents (Final)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28560" y="2009880"/>
            <a:ext cx="8158320" cy="42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eorgia’s 2012 and subsequent “305(b)/303(d) List Documents (Final)” can be viewed on the GAEPD website, </a:t>
            </a:r>
            <a:r>
              <a:rPr b="0" lang="en-US" sz="2400" spc="-1" strike="noStrike" u="sng">
                <a:solidFill>
                  <a:srgbClr val="6685a3"/>
                </a:solidFill>
                <a:uFillTx/>
                <a:latin typeface="Arial"/>
                <a:ea typeface="Times New Roman"/>
                <a:hlinkClick r:id="rId1"/>
              </a:rPr>
              <a:t>epd.georgia.gov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IS Data Sets for biota impaired streams are available on the GAEPD website in ESRI Geodatabase 9.1 format and ESRI Shapefile forma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riteria violated: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“Bio F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(Impaired Fish Community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and/o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“Bio M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(Impaired Macroinvertebrate Community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otential causes: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“NP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(nonpoint source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“UR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(urban runoff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49200" y="979200"/>
            <a:ext cx="8958240" cy="88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Arial Black"/>
              </a:rPr>
              <a:t>Total Maximum Daily Loads (TMDL)</a:t>
            </a:r>
            <a:br>
              <a:rPr sz="3200"/>
            </a:br>
            <a:r>
              <a:rPr b="0" lang="en-US" sz="3200" spc="-1" strike="noStrike">
                <a:solidFill>
                  <a:srgbClr val="339933"/>
                </a:solidFill>
                <a:latin typeface="Arial Black"/>
              </a:rPr>
              <a:t>Implementation Plans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28560" y="2009520"/>
            <a:ext cx="8158320" cy="38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&amp;PC Plan must address any site-specific conditions or requirements included in the TMDL Implementation Plan, if the TMDL Implementation Plan for 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sedi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as finalized at least six months prior to submittal of the </a:t>
            </a:r>
            <a:r>
              <a:rPr b="0" i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Initi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Notice of Int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of TMDL Implementation Plans can be viewed on the GAEPD website, </a:t>
            </a:r>
            <a:r>
              <a:rPr b="0" lang="en-US" sz="2400" spc="-1" strike="noStrike" u="sng">
                <a:solidFill>
                  <a:srgbClr val="6685a3"/>
                </a:solidFill>
                <a:uFillTx/>
                <a:latin typeface="Arial"/>
                <a:hlinkClick r:id="rId1"/>
              </a:rPr>
              <a:t>epd.georgia.gov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 algn="ctr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Permit Reference:  Part III.C.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49200" y="1201680"/>
            <a:ext cx="895824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Arial Black"/>
              </a:rPr>
              <a:t>Example - Big Creek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28560" y="2009520"/>
            <a:ext cx="8158320" cy="35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iteria Violat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Bio M (Impaired Macroinvertebrate Communit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tential Cau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NP (Nonpoint Sour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tegor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4a (Water not supporting its use and                                 a TMDL has been develop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49200" y="1201680"/>
            <a:ext cx="895824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Arial Black"/>
              </a:rPr>
              <a:t>Example - Big Creek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2009880"/>
            <a:ext cx="8158320" cy="406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TMDL for Sediment – February 2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 algn="ctr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Estimated Sediment Loading Rates for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xisting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ondi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inage Area – 47 sq m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ediment Rate – 422 tons/sq mile/y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otal Load – 19,000 tons/y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49200" y="1201680"/>
            <a:ext cx="895824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Arial Black"/>
              </a:rPr>
              <a:t>Example - Big Creek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2009520"/>
            <a:ext cx="8158320" cy="35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edi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oading Rates that Big Creek can assimilate and achieve water quality standar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LA (Point Sources) – 0.16 tons/y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LA (Nonpoint Sourcs) – 13 tons/sq mile/y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MDL – 622 tons/ y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49200" y="1201680"/>
            <a:ext cx="895824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Arial Black"/>
              </a:rPr>
              <a:t>Example - Big Creek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28560" y="2009520"/>
            <a:ext cx="8158320" cy="37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imated Sediment Load for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xist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ndi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 algn="ctr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19,000 tons/y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 algn="ctr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MDL for Sediment -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622 tons/y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 Reduction of Sediment Load -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97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49200" y="1201680"/>
            <a:ext cx="895824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Arial Black"/>
              </a:rPr>
              <a:t>Example - Big Creek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28560" y="2009880"/>
            <a:ext cx="8158320" cy="33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MDL Implementation Plan – April 2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s local municipal and county E&amp;SC Progra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fers to the Erosion and Sedimentation Act and applicable Rules and Regul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fers to the GSWCC Education and Training Certification require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49200" y="979200"/>
            <a:ext cx="8958240" cy="88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Arial Black"/>
              </a:rPr>
              <a:t>Total Maximum Daily Loads (TMDL)</a:t>
            </a:r>
            <a:br>
              <a:rPr sz="3200"/>
            </a:br>
            <a:r>
              <a:rPr b="0" lang="en-US" sz="3200" spc="-1" strike="noStrike">
                <a:solidFill>
                  <a:srgbClr val="339933"/>
                </a:solidFill>
                <a:latin typeface="Arial Black"/>
              </a:rPr>
              <a:t>Implementation Plans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28560" y="2009880"/>
            <a:ext cx="8158320" cy="378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no site-specific conditions or requirements have been included in the TMDL Implementation Plan for the applicable impaired stream seg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NPDES construction activities are considered a significant source of pollution and compliance with the Permits should lead to sediment loading for construction sites at or below applicable target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1758960" y="1506240"/>
            <a:ext cx="600408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0" algn="ctr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NPDES General Permi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620640" y="2259000"/>
            <a:ext cx="8445600" cy="42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22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Effective September 24, 20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22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9900"/>
              </a:buClr>
              <a:buFont typeface="Wingdings" charset="2"/>
              <a:buChar char=""/>
              <a:tabLst>
                <a:tab algn="l" pos="22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. GAR100001 – Stand Alone Construc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9900"/>
              </a:buClr>
              <a:buFont typeface="Wingdings" charset="2"/>
              <a:buChar char=""/>
              <a:tabLst>
                <a:tab algn="l" pos="22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. GAR100002 – Infrastructure Co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9900"/>
              </a:buClr>
              <a:buFont typeface="Wingdings" charset="2"/>
              <a:buChar char=""/>
              <a:tabLst>
                <a:tab algn="l" pos="22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. GAR100003 – Common Development Co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22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22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4f7296"/>
                </a:solidFill>
                <a:latin typeface="Arial"/>
              </a:rPr>
              <a:t>Current NPDES General Permits are avail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22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4f7296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4f7296"/>
                </a:solidFill>
                <a:latin typeface="Arial"/>
              </a:rPr>
              <a:t>on the GAEPD and GSWCC websit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22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22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6685a3"/>
                </a:solidFill>
                <a:uFillTx/>
                <a:latin typeface="Arial"/>
                <a:hlinkClick r:id="rId1"/>
              </a:rPr>
              <a:t>epd.georgia.gov</a:t>
            </a:r>
            <a:r>
              <a:rPr b="1" i="1" lang="en-US" sz="2400" spc="-1" strike="noStrike">
                <a:solidFill>
                  <a:srgbClr val="7030a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i="1" lang="en-US" sz="2400" spc="-1" strike="noStrike" u="sng">
                <a:solidFill>
                  <a:srgbClr val="4f7296"/>
                </a:solidFill>
                <a:uFillTx/>
                <a:latin typeface="Arial"/>
              </a:rPr>
              <a:t>gaswcc.georgia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20" descr="C:\Program Files\Microsoft Office\MEDIA\OFFICE14\Lines\BD21348_.gif"/>
          <p:cNvPicPr/>
          <p:nvPr/>
        </p:nvPicPr>
        <p:blipFill>
          <a:blip r:embed="rId2"/>
          <a:stretch/>
        </p:blipFill>
        <p:spPr>
          <a:xfrm>
            <a:off x="2095560" y="2987640"/>
            <a:ext cx="5715000" cy="954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65040" y="1196640"/>
            <a:ext cx="83059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Terms of Permit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98320" y="1936440"/>
            <a:ext cx="8158320" cy="436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rosion, Sedimentation and Pollution Control Pla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ES&amp;PC Plan is Critic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000" spc="-1" strike="noStrike">
                <a:solidFill>
                  <a:srgbClr val="339933"/>
                </a:solidFill>
                <a:latin typeface="Arial"/>
              </a:rPr>
              <a:t>The Plan must be prepared in accordance with Part IV of the Permit and the Plan must be implemented and the Plan must provide for compliance with the Permit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8" descr="C:\Documents and Settings\fcarubba\Local Settings\Temporary Internet Files\Content.IE5\23TN59Q2\MC900360580[1].wmf"/>
          <p:cNvPicPr/>
          <p:nvPr/>
        </p:nvPicPr>
        <p:blipFill>
          <a:blip r:embed="rId1"/>
          <a:stretch/>
        </p:blipFill>
        <p:spPr>
          <a:xfrm>
            <a:off x="3362400" y="2916360"/>
            <a:ext cx="2346120" cy="21826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65040" y="1196640"/>
            <a:ext cx="83059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Summary of Change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53760" y="1955880"/>
            <a:ext cx="8157960" cy="421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 IV –ES&amp;PC Plan Cont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90000"/>
              </a:lnSpc>
              <a:spcBef>
                <a:spcPts val="12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Plan must include the applicable </a:t>
            </a:r>
            <a:r>
              <a:rPr b="1" i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ES&amp;PC Plan Checkli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eveloped the GSWCC, available on both the GAEPD and GSWCC websites –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vised January 2015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90000"/>
              </a:lnSpc>
              <a:spcBef>
                <a:spcPts val="12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MPs identified in Part III.C.2.(a) – (u) of the new Permits have been listed in </a:t>
            </a:r>
            <a:r>
              <a:rPr b="1" i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Appendix 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the ES&amp;PC Plan Checklists –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vised January 2015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90000"/>
              </a:lnSpc>
              <a:spcBef>
                <a:spcPts val="12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ES&amp;PC Plan Checklist should not be used in lieu of reading and understanding all of the Permit conditions.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Checklist does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no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ddress Parts I, II, III, V or VI  of the Permi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Permit Reference:  Part IV.D.1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25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65040" y="1196640"/>
            <a:ext cx="83059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Terms of Permit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53760" y="1955520"/>
            <a:ext cx="8157960" cy="36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 IV –ES&amp;PC Plan Cont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90000"/>
              </a:lnSpc>
              <a:spcBef>
                <a:spcPts val="12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lineation of on-site wetlands and </a:t>
            </a: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l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tate waters located on and within 200 feet of the construction si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90000"/>
              </a:lnSpc>
              <a:spcBef>
                <a:spcPts val="12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elineation of the applicable 25-ft and/or 50-ft buffers adjacent to State waters and any additional buffers required by a Local Issuing Authority.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90000"/>
              </a:lnSpc>
              <a:spcBef>
                <a:spcPts val="12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lineation of all sampling locations and locations where storm water is discharged to a surface wat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Permit Reference:  Part IV.D.1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25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65040" y="1196640"/>
            <a:ext cx="83059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Terms of Permit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53760" y="1955880"/>
            <a:ext cx="8157960" cy="30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-282600">
              <a:spcBef>
                <a:spcPts val="12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s per the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Georgia Erosion and Sedimentation Act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and local Erosion and Sedimentation Control Ordinanc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25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TATE WATER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cludes any and all rivers, streams, creeks, branches, lakes, reservoirs, ponds, drainage systems, springs, wells, and other bodies of surface or subsurface water,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natur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rtifici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lying within or forming a part of the boundaries of the State, which are not entirely confined and retained completely upon the property of a single individual, partnership, or corpor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25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65040" y="1196640"/>
            <a:ext cx="83059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Terms of Permit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53760" y="1955880"/>
            <a:ext cx="8157960" cy="29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0">
              <a:spcBef>
                <a:spcPts val="125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2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i="1" lang="en-US" sz="2000" spc="-1" strike="noStrike" u="sng">
                <a:solidFill>
                  <a:srgbClr val="339933"/>
                </a:solidFill>
                <a:uFillTx/>
                <a:latin typeface="Arial"/>
              </a:rPr>
              <a:t>Buffer Determinations for Tidal Creeks and Saltwater Marsh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Judson H. Turner, EPD Director, April 2014 Memorandum - available on the GAEPD website, </a:t>
            </a:r>
            <a:r>
              <a:rPr b="0" lang="en-US" sz="2000" spc="-1" strike="noStrike" u="sng">
                <a:solidFill>
                  <a:srgbClr val="6685a3"/>
                </a:solidFill>
                <a:uFillTx/>
                <a:latin typeface="Arial"/>
                <a:hlinkClick r:id="rId1"/>
              </a:rPr>
              <a:t>epd.georgia.gov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2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Methodology for Identification of Intermittent and Perennial Streams and Their Origin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Version 4.11, North Carolina Division of Water Quality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Effective September 201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25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65040" y="1196640"/>
            <a:ext cx="83059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Terms of Permit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53760" y="1955520"/>
            <a:ext cx="8157960" cy="36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0">
              <a:spcBef>
                <a:spcPts val="125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2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groundwater base flows are present, the stream is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perenni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intermitt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will require a buff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2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the feature is dry, then the stream may be intermittent or 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ephemer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 If there is no flowing water within 48 hours of a rain event, the drainage feature is most probably ephemeral. </a:t>
            </a:r>
            <a:r>
              <a:rPr b="0" i="1" lang="en-US" sz="2000" spc="-1" strike="noStrike">
                <a:solidFill>
                  <a:srgbClr val="339933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2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ok for well defined channel and point of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“wrested”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getation – vegetation wrested from the channel for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“normal stream flow”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“wave action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25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65040" y="1196640"/>
            <a:ext cx="83059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Terms of Permit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53760" y="1955880"/>
            <a:ext cx="8157960" cy="33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0">
              <a:spcBef>
                <a:spcPts val="125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2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ffers on State Waters are measured from the point where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i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vegetation has been wrested by normal stream flow or wave action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250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2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Wrested Vegeta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movement of water that removes soil, debris and vegetation, creating a clear demarcation between water flow and vegetative growth. </a:t>
            </a:r>
            <a:r>
              <a:rPr b="0" i="1" lang="en-US" sz="2000" spc="-1" strike="noStrike">
                <a:solidFill>
                  <a:srgbClr val="339933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25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65040" y="1196640"/>
            <a:ext cx="83059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Terms of Permit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53760" y="1955880"/>
            <a:ext cx="8157960" cy="406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i="1" lang="en-US" sz="2400" spc="-1" strike="noStrike">
                <a:solidFill>
                  <a:srgbClr val="7030a0"/>
                </a:solidFill>
                <a:latin typeface="Arial"/>
              </a:rPr>
              <a:t>Stream Buffer Requirements:</a:t>
            </a:r>
            <a:r>
              <a:rPr b="1" lang="en-US" sz="2400" spc="-1" strike="noStrike">
                <a:solidFill>
                  <a:srgbClr val="7030a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2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on-trou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(warm water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eams: 25-ft buffer on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erenni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intermitt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tre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25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2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ou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(cold water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eams: 50-ft buffer on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erenni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intermitt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ephemer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tream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25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i="1" lang="en-US" sz="2000" spc="-1" strike="noStrike">
                <a:solidFill>
                  <a:srgbClr val="339933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2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25-ft or 50-ft buffer requirements </a:t>
            </a: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a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e applicable to ponds, lakes, and reservoi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25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65040" y="1196640"/>
            <a:ext cx="83059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Summary of Change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53760" y="1955520"/>
            <a:ext cx="8157960" cy="48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 IV – Additional Stream Buffer Exem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2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hemeral Streams (Excluding Trout Stream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2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lkheads and Seawalls on Lake Oconee and Lake Sincl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2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intenance, Repair and/or Upgrade of SWCD Watershed Dams when under the Technical Supervision of the USDA NR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2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ream Crossing for Utility Lines for any EMC or Public Utility under the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Regulatory Jurisdiction of the PSC and/or FERC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r any Cable Television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2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ight-of-Way Posts, Guy Wires, Anchors, Survey Markers and the Replacement of or Maintenance of Existing Utility Structures under the regulatory jurisdiction of the PSC and/or FERC or roadway projects undertaken by DOT or any municipality or count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65040" y="1196640"/>
            <a:ext cx="83059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Summary of Change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53760" y="1955880"/>
            <a:ext cx="8157960" cy="437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 IV – ES&amp;PC Plan – Design Profess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2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AND ALON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MON DEVELOPMEN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truction projects, the </a:t>
            </a:r>
            <a:r>
              <a:rPr b="1" i="1" lang="en-US" sz="2000" spc="-1" strike="noStrike" u="sng">
                <a:solidFill>
                  <a:srgbClr val="339933"/>
                </a:solidFill>
                <a:uFillTx/>
                <a:latin typeface="Arial"/>
              </a:rPr>
              <a:t>design profession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ho prepared the ES&amp;PC Plan must inspect the installation of the</a:t>
            </a:r>
            <a:r>
              <a:rPr b="0" lang="en-US" sz="2000" spc="-1" strike="noStrike">
                <a:solidFill>
                  <a:srgbClr val="339933"/>
                </a:solidFill>
                <a:latin typeface="Arial"/>
              </a:rPr>
              <a:t> </a:t>
            </a:r>
            <a:r>
              <a:rPr b="1" i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initial sediment storage requirements and perimeter control BMPs within seven (7) days after installa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339933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25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2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non-linear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FRASTRUCTUR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nstruction projects, the </a:t>
            </a:r>
            <a:r>
              <a:rPr b="1" i="1" lang="en-US" sz="2000" spc="-1" strike="noStrike" u="sng">
                <a:solidFill>
                  <a:srgbClr val="339933"/>
                </a:solidFill>
                <a:uFillTx/>
                <a:latin typeface="Arial"/>
              </a:rPr>
              <a:t>design profession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ho prepared the ES&amp;PC Plan must inspect the installation of the</a:t>
            </a:r>
            <a:r>
              <a:rPr b="0" lang="en-US" sz="2000" spc="-1" strike="noStrike">
                <a:solidFill>
                  <a:srgbClr val="339933"/>
                </a:solidFill>
                <a:latin typeface="Arial"/>
              </a:rPr>
              <a:t> </a:t>
            </a:r>
            <a:r>
              <a:rPr b="1" i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initial sediment storage requirements and perimeter control BMPs within seven (7) days after installa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339933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0" algn="ctr">
              <a:spcBef>
                <a:spcPts val="125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6" descr="C:\Program Files\Microsoft Office\MEDIA\OFFICE14\Lines\BD21348_.gif"/>
          <p:cNvPicPr/>
          <p:nvPr/>
        </p:nvPicPr>
        <p:blipFill>
          <a:blip r:embed="rId1"/>
          <a:stretch/>
        </p:blipFill>
        <p:spPr>
          <a:xfrm>
            <a:off x="1743120" y="4319640"/>
            <a:ext cx="5715000" cy="950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49200" y="1172880"/>
            <a:ext cx="895824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NPDES General Permit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28560" y="2009520"/>
            <a:ext cx="8158320" cy="462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0" algn="ctr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Reading and understanding the Permits are essential to maintaining compli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0" algn="ctr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0" algn="ctr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0" algn="ctr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0" algn="ctr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0" algn="ctr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0" algn="ctr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0" algn="ctr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Expiration Date – July 31, 20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19" descr=""/>
          <p:cNvPicPr/>
          <p:nvPr/>
        </p:nvPicPr>
        <p:blipFill>
          <a:blip r:embed="rId1"/>
          <a:stretch/>
        </p:blipFill>
        <p:spPr>
          <a:xfrm>
            <a:off x="3511440" y="2908440"/>
            <a:ext cx="2229120" cy="28828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65040" y="1196640"/>
            <a:ext cx="83059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Summary of Change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53760" y="1955520"/>
            <a:ext cx="8157960" cy="34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 IV – ES&amp;PC Plan – Design Profess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2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ternatively, for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LINEA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frastructure construction projects, the </a:t>
            </a:r>
            <a:r>
              <a:rPr b="1" i="1" lang="en-US" sz="2000" spc="-1" strike="noStrike" u="sng">
                <a:solidFill>
                  <a:srgbClr val="339933"/>
                </a:solidFill>
                <a:uFillTx/>
                <a:latin typeface="Arial"/>
              </a:rPr>
              <a:t>design profession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ho prepared the ES&amp;PC Plan must inspect the installation of the</a:t>
            </a:r>
            <a:r>
              <a:rPr b="0" lang="en-US" sz="2000" spc="-1" strike="noStrike">
                <a:solidFill>
                  <a:srgbClr val="339933"/>
                </a:solidFill>
                <a:latin typeface="Arial"/>
              </a:rPr>
              <a:t> </a:t>
            </a:r>
            <a:r>
              <a:rPr b="1" i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sediment storage requirements and perimeter control BMPs for the INITIAL PHASED SUB-PART OR SEGMENT of the linear infrastructure project and ALL SEDIMENT BASINS within seven (7) days after installa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2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turbed acreage of the initial phased sub-part or segment of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LINEA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frastructure project must be equal to or greater than 10% of total disturbed acreage but not less than one(1) ac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65040" y="1196640"/>
            <a:ext cx="83059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Summary of Change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53760" y="1955880"/>
            <a:ext cx="8157960" cy="42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 IV – ES&amp;PC Plan – Insp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Primary Permittee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d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Tertiary Permittee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ust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measure rainfall once every 24 hou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except any    non-working Saturday, Sunday and Federal holiday until  a NOT is submit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 of rainfall may be suspended if all areas of the site have undergon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final stabiliz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stablished a crop of annual vegetation and a seeding of target perennia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6" descr="C:\Program Files\Microsoft Office\MEDIA\OFFICE14\Lines\BD21348_.gif"/>
          <p:cNvPicPr/>
          <p:nvPr/>
        </p:nvPicPr>
        <p:blipFill>
          <a:blip r:embed="rId1"/>
          <a:stretch/>
        </p:blipFill>
        <p:spPr>
          <a:xfrm>
            <a:off x="1711440" y="4287960"/>
            <a:ext cx="5715000" cy="950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15440" y="1063800"/>
            <a:ext cx="8642520" cy="49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Termination of Coverage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-360" y="-2562120"/>
            <a:ext cx="4243320" cy="92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ermination of Cove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79160" y="2174400"/>
            <a:ext cx="4243320" cy="41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-282600">
              <a:spcBef>
                <a:spcPts val="1125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FINAL STABILIZATION</a:t>
            </a:r>
            <a:r>
              <a:rPr b="0" i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– means “…100% of the soil surface is uniformly covered in permanent vegetation with a density of 70% or greater, or landscaped according to the Plan </a:t>
            </a:r>
            <a:r>
              <a:rPr b="1" i="1" lang="en-US" sz="18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(uniformly covered with landscaping materials in planned landscaped areas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or equivalent permanent stabilization measures as defined in the Manual </a:t>
            </a:r>
            <a:r>
              <a:rPr b="1" i="1" lang="en-US" sz="18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(excluding a crop of annual vegetation and seeding of target perennials appropriate for the regions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125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833720" y="2650680"/>
            <a:ext cx="424476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876920" y="2286000"/>
            <a:ext cx="3471840" cy="310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6" descr="C:\Documents and Settings\Snoakes\My Documents\My Pictures\BMP1_35A.gif"/>
          <p:cNvPicPr/>
          <p:nvPr/>
        </p:nvPicPr>
        <p:blipFill>
          <a:blip r:embed="rId1"/>
          <a:stretch/>
        </p:blipFill>
        <p:spPr>
          <a:xfrm>
            <a:off x="4648320" y="1892160"/>
            <a:ext cx="4467240" cy="37594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57080" y="1211040"/>
            <a:ext cx="788688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Summary of Change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801360" y="2009880"/>
            <a:ext cx="8157960" cy="51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 VI – Termination of Cove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Permittee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(Primary, Secondary or Tertiary) may submit a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Notice of Termination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(NOT)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ediately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if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lann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nstruction activities have been completed and the entire development has undergone final stabilization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s defined in the new permi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storm water discharges associated with construction activities have ceased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te is in compliance with the Permi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 algn="ctr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Permit Reference:  Part VI.A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57080" y="1211040"/>
            <a:ext cx="788688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Summary of Change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01360" y="2009880"/>
            <a:ext cx="8157960" cy="42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 VI – Termination of Cove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For Infrastructure Construction Projects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ermittee may submit a Notice of Termination (NOT) </a:t>
            </a:r>
            <a:r>
              <a:rPr b="1" lang="en-US" sz="2400" spc="-1" strike="noStrike" u="sng">
                <a:solidFill>
                  <a:srgbClr val="339933"/>
                </a:solidFill>
                <a:uFillTx/>
                <a:latin typeface="Arial"/>
              </a:rPr>
              <a:t>for each phase of the infrastructure project, not to exceed four (4) phas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disturbed acreage for each phase must be equal or greater than 25% of the total disturbed acreage – except for the final phase,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the disturbed acreage for the final phase must be equal to or greater than 10% of the total disturbed acrea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57080" y="1211040"/>
            <a:ext cx="788688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Summary of Change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01360" y="2009880"/>
            <a:ext cx="8157960" cy="42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 VI – Termination of Cove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For Infrastructure Construction Projects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mittees may submit a Notice of Termination (NOT) if coverage under the 2013 NPDES General Permit No. GAR100002 is not required for the Primary Permittee of a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xist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339933"/>
                </a:solidFill>
                <a:latin typeface="Arial"/>
              </a:rPr>
              <a:t>infrastructure construction proj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Contiguous Areas of Land Disturbanc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Routine Maintenan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</a:t>
            </a:r>
            <a:r>
              <a:rPr b="0" i="1" lang="en-US" sz="2400" spc="-1" strike="noStrike">
                <a:solidFill>
                  <a:srgbClr val="339933"/>
                </a:solidFill>
                <a:latin typeface="Arial"/>
              </a:rPr>
              <a:t>infrastructure construction project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ve been redefined in the 2013 NPDES General Permit No. GAR100002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57080" y="1211040"/>
            <a:ext cx="788688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Summary of Change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01360" y="2009520"/>
            <a:ext cx="8157960" cy="461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 VI – Notice of Termination – Attach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82600" indent="-282600">
              <a:spcBef>
                <a:spcPts val="12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py of the NOI previously submitted for coverage under the 2013 NPDES General Permits for Construction Activit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2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pies of all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sampling repor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/or written justification why sampling was not conduct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2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GPS locations of the beginning and end of each phase of a linear infrastructure construction project and if applicable, maps identifying significant landmark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2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cumentation that coverage under the 2013 NPDES General Permit No. GAR100002 is no longer required (e.g., resulting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ontiguous land disturbanc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less than one (1) acre or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routine mainten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25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57080" y="1211040"/>
            <a:ext cx="788688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Summary of Change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958680" y="1910880"/>
            <a:ext cx="81583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-282600">
              <a:spcBef>
                <a:spcPts val="1500"/>
              </a:spcBef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 VI – Termination of Cove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Primary Permittee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of a Common Development may submit a NOT, even if all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lanne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construction activities have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een completed, if and only if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truction activities have stopped for at least 90 day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al stabilization has been implemented by the Primary Permittee and all Secondary Permittee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Secondary Permittees have submitted a NOT,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te is in compliance with the Permi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 algn="ctr">
              <a:spcBef>
                <a:spcPts val="1500"/>
              </a:spcBef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Permit Reference:  Part VI.A.1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757080" y="1211040"/>
            <a:ext cx="788688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Summary of Change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01360" y="2009880"/>
            <a:ext cx="815796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 VI – Tertiary Permittee – Common Develop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e Primary Permittee must notify the legal title holders of each remaining lot(s) that these lot Owners or Operators will become Tertiary Permittee(s) –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pplicable to all lots, including lots that are less than one ac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TERTIARY PERMITTE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eans either the Owner or Operator of a remaining lot(s) within a Common Development where the Primary Permittee and all Secondary Permittees have submitted a NOT in accordance with the Permit (excluding utility companies and contractors working under a Blanket NOI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757080" y="1211040"/>
            <a:ext cx="788688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Tertiary Permittee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01360" y="1838160"/>
            <a:ext cx="8157960" cy="461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OPTION (1)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owner may submit a </a:t>
            </a:r>
            <a:r>
              <a:rPr b="1" lang="en-US" sz="2400" spc="-1" strike="noStrike">
                <a:solidFill>
                  <a:srgbClr val="339933"/>
                </a:solidFill>
                <a:latin typeface="Arial"/>
              </a:rPr>
              <a:t>Notice of Intent – Initial Notific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ach individual lot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a Tertiary Permittee and a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new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&amp;PC Plan for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ach individual lot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st be prepared and submitted.  For each NOI submitted, the Tertiary Permittee must submit a NO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OPTION (2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The owner may submit a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ing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9933"/>
                </a:solidFill>
                <a:latin typeface="Arial"/>
              </a:rPr>
              <a:t>NOI – Initial Notific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s a Tertiary Permittee for the entire construction site AND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if the owner’s construction site is less than five acres and total land disturbance within each individual lot is less than one ac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the owner may submit a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ne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S&amp;PC Plan for a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ypical individual lo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then submit a NOT for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ach individual lo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49200" y="1172880"/>
            <a:ext cx="895824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Summary of Change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28560" y="2009520"/>
            <a:ext cx="815832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-290520">
              <a:spcBef>
                <a:spcPts val="1500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f the permittee failed to submit a NOI Re-Issuance         Notification by deadline (December 24, 2013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0">
              <a:spcBef>
                <a:spcPts val="751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203040">
              <a:spcBef>
                <a:spcPts val="751"/>
              </a:spcBef>
              <a:buClr>
                <a:srgbClr val="ff9900"/>
              </a:buClr>
              <a:buFont typeface="Arial"/>
              <a:buChar char="–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ilure to comply with this requirement shall constitute a violation of the Georgia Water Control Act for each day until an </a:t>
            </a:r>
            <a:r>
              <a:rPr b="1" i="1" lang="en-US" sz="2400" spc="-1" strike="noStrike">
                <a:solidFill>
                  <a:srgbClr val="339933"/>
                </a:solidFill>
                <a:latin typeface="Arial"/>
              </a:rPr>
              <a:t>“</a:t>
            </a:r>
            <a:r>
              <a:rPr b="1" i="1" lang="en-US" sz="2400" spc="-1" strike="noStrike" u="sng">
                <a:solidFill>
                  <a:srgbClr val="339933"/>
                </a:solidFill>
                <a:uFillTx/>
                <a:latin typeface="Arial"/>
              </a:rPr>
              <a:t>initial</a:t>
            </a:r>
            <a:r>
              <a:rPr b="1" i="1" lang="en-US" sz="2400" spc="-1" strike="noStrike">
                <a:solidFill>
                  <a:srgbClr val="339933"/>
                </a:solidFill>
                <a:latin typeface="Arial"/>
              </a:rPr>
              <a:t>”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OI – Version 2013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submit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0">
              <a:spcBef>
                <a:spcPts val="374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203040">
              <a:spcBef>
                <a:spcPts val="751"/>
              </a:spcBef>
              <a:buClr>
                <a:srgbClr val="ff9900"/>
              </a:buClr>
              <a:buFont typeface="Arial"/>
              <a:buChar char="–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addition, the permittee must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prepare and submit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a new ES&amp;PC Pla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accordance with Part IV of th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ne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ermits and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pay all applicable fe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a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ne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oject in accordance with Part II.D of the permi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57080" y="1211040"/>
            <a:ext cx="788688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Tertiary Permittee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01360" y="1837800"/>
            <a:ext cx="81579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OPTION (3)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owner may submit a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ing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9933"/>
                </a:solidFill>
                <a:latin typeface="Arial"/>
              </a:rPr>
              <a:t>Notice of Intent – Initial Notific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ntire construction si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submit a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ne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S&amp;PC Plan for the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ntire construction si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 The owner may submit the NOI – Initial Notification as either a Primary Permittee or Tertiary Permittee and a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ing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NO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mary Permittees must provide copies of the Plan to all Secondary Permitte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mary Permittees are solely responsible for the payment of NPDES General Permit fees for all planned land disturbing activities – including land disturbing activities planned by any Secondary Permittees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57080" y="1214280"/>
            <a:ext cx="7886880" cy="49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Contact Information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906480" y="2030400"/>
            <a:ext cx="8158320" cy="425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 algn="ctr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 algn="ctr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 algn="ctr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EPD Contact –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Frank M. Carubb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 algn="ctr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lephone:  (404) 651-85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 algn="ctr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 algn="ctr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 u="sng">
                <a:solidFill>
                  <a:srgbClr val="6685a3"/>
                </a:solidFill>
                <a:uFillTx/>
                <a:latin typeface="Arial"/>
                <a:hlinkClick r:id="rId1"/>
              </a:rPr>
              <a:t>Frank.Carubba@dnr.state.ga.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5" descr="C:\Program Files\Microsoft Office\MEDIA\CAGCAT10\j0233018.wmf"/>
          <p:cNvPicPr/>
          <p:nvPr/>
        </p:nvPicPr>
        <p:blipFill>
          <a:blip r:embed="rId2"/>
          <a:stretch/>
        </p:blipFill>
        <p:spPr>
          <a:xfrm>
            <a:off x="3922560" y="1847880"/>
            <a:ext cx="2109960" cy="21430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49200" y="1172880"/>
            <a:ext cx="895824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Summary of Change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8560" y="2009520"/>
            <a:ext cx="8158320" cy="38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-290520">
              <a:spcBef>
                <a:spcPts val="1500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 I – Coverage under the Permits - Defini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FINAL STABILIZATION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– means “…100% of the soil surface is uniformly covered in permanent vegetation with a density of 70% or greater, or landscaped according to the Plan 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(uniformly covered with landscaping materials in planned landscaped areas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or equivalent permanent stabilization measures as defined in the Manual 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(excluding a crop of annual vegetation and seeding of target perennials appropriate for the regions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49200" y="1172880"/>
            <a:ext cx="895824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Summary of Change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28560" y="2009520"/>
            <a:ext cx="8158320" cy="36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-290520">
              <a:spcBef>
                <a:spcPts val="1500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 I – Coverage under the Permits - Defini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SUB-CONTRACTOR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– means an entity employed or retained by the permittee to conduct any type of construction activity 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(as defined in this permit)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 a construction si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i="1" lang="en-US" sz="2400" spc="-1" strike="noStrike" u="sng">
                <a:solidFill>
                  <a:srgbClr val="339933"/>
                </a:solidFill>
                <a:uFillTx/>
                <a:latin typeface="Arial"/>
                <a:ea typeface="Arial"/>
              </a:rPr>
              <a:t>Sub-contractors must complete the appropriate certification course approved by the Georgia Soil and Water Conservation Commission in accordance with the provisions of O.C.G.A. §12-7-19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49200" y="1172880"/>
            <a:ext cx="895824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Summary of Change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1971720"/>
            <a:ext cx="8158320" cy="406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-290520">
              <a:spcBef>
                <a:spcPts val="1500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 I – Coverage under the Permits - Defin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CERTIFIED PERSONNEL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eans a person who has successfully completed the appropriate certification course approved by the GSWCC. (O.C.G.A. 1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-7-1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203040">
              <a:spcBef>
                <a:spcPts val="751"/>
              </a:spcBef>
              <a:buClr>
                <a:srgbClr val="ff9900"/>
              </a:buClr>
              <a:buFont typeface="Arial"/>
              <a:buChar char="–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vel 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Subcontractors retained by a Permitt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203040">
              <a:spcBef>
                <a:spcPts val="751"/>
              </a:spcBef>
              <a:buClr>
                <a:srgbClr val="ff9900"/>
              </a:buClr>
              <a:buFont typeface="Arial"/>
              <a:buChar char="–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vel I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E&amp;SC Inspectors retained by a Permitt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203040">
              <a:spcBef>
                <a:spcPts val="751"/>
              </a:spcBef>
              <a:buClr>
                <a:srgbClr val="ff9900"/>
              </a:buClr>
              <a:buFont typeface="Arial"/>
              <a:buChar char="–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vel I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Regulatory Enforcement Inspe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203040">
              <a:spcBef>
                <a:spcPts val="751"/>
              </a:spcBef>
              <a:buClr>
                <a:srgbClr val="ff9900"/>
              </a:buClr>
              <a:buFont typeface="Arial"/>
              <a:buChar char="–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vel I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Design Professionals and Plan Reviewers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5" descr="C:\Program Files\Microsoft Office\MEDIA\OFFICE14\Lines\BD14801_.gif"/>
          <p:cNvPicPr/>
          <p:nvPr/>
        </p:nvPicPr>
        <p:blipFill>
          <a:blip r:embed="rId1"/>
          <a:stretch/>
        </p:blipFill>
        <p:spPr>
          <a:xfrm>
            <a:off x="1859040" y="3906720"/>
            <a:ext cx="5715000" cy="954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49200" y="1172880"/>
            <a:ext cx="895824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Summary of Change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28560" y="1784520"/>
            <a:ext cx="8158320" cy="434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-290520">
              <a:spcBef>
                <a:spcPts val="1500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 I – Coverage under the Permits - Eligibility: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0">
              <a:spcBef>
                <a:spcPts val="751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i="1" lang="en-US" sz="2400" spc="-1" strike="noStrike">
                <a:solidFill>
                  <a:srgbClr val="339933"/>
                </a:solidFill>
                <a:latin typeface="Arial"/>
              </a:rPr>
              <a:t>For Infrastructure Construction Projects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0">
              <a:spcBef>
                <a:spcPts val="751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CONTIGUOUS AREAS OF LAND DISTURBANCES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purposes of this permit, “include those areas of land disturbances solely separated by drilling and boring activities, water of the State and adjacent State-mandated buffers, roadways and/or railways.  In addition, contiguous areas of land disturbances include all areas of land disturbances at a sole roadway intersection and/or junction.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0">
              <a:spcBef>
                <a:spcPts val="751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49200" y="1172880"/>
            <a:ext cx="895824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Summary of Change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76000" y="1794960"/>
            <a:ext cx="8157960" cy="40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-290520">
              <a:spcBef>
                <a:spcPts val="1500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 I – Coverage under the Permits - Eligibility: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0">
              <a:spcBef>
                <a:spcPts val="751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0">
              <a:spcBef>
                <a:spcPts val="751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i="1" lang="en-US" sz="2400" spc="-1" strike="noStrike">
                <a:solidFill>
                  <a:srgbClr val="339933"/>
                </a:solidFill>
                <a:latin typeface="Arial"/>
              </a:rPr>
              <a:t>For Infrastructure Construction Projects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0">
              <a:spcBef>
                <a:spcPts val="751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verage under this permit is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no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required for infrastructure construction projects that consist solely of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routine maintenance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 for the original purpose of the facility that is performed to maintain the 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original line and grade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 and the 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hydraulic capacity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.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0">
              <a:spcBef>
                <a:spcPts val="751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6" descr="C:\Program Files\Microsoft Office\MEDIA\OFFICE14\Lines\BD21348_.gif"/>
          <p:cNvPicPr/>
          <p:nvPr/>
        </p:nvPicPr>
        <p:blipFill>
          <a:blip r:embed="rId1"/>
          <a:stretch/>
        </p:blipFill>
        <p:spPr>
          <a:xfrm>
            <a:off x="1596960" y="2363760"/>
            <a:ext cx="5715000" cy="954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6" descr="C:\Program Files\Microsoft Office\MEDIA\OFFICE14\Lines\BD21348_.gif"/>
          <p:cNvPicPr/>
          <p:nvPr/>
        </p:nvPicPr>
        <p:blipFill>
          <a:blip r:embed="rId2"/>
          <a:stretch/>
        </p:blipFill>
        <p:spPr>
          <a:xfrm>
            <a:off x="1825560" y="5627520"/>
            <a:ext cx="5715000" cy="1238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27T18:21:18Z</dcterms:created>
  <dc:creator>Ali Wagner</dc:creator>
  <dc:description/>
  <dc:language>en-US</dc:language>
  <cp:lastModifiedBy>Carubba, Frank</cp:lastModifiedBy>
  <cp:lastPrinted>2014-05-08T15:05:27Z</cp:lastPrinted>
  <dcterms:modified xsi:type="dcterms:W3CDTF">2015-02-26T16:42:53Z</dcterms:modified>
  <cp:revision>1122</cp:revision>
  <dc:subject/>
  <dc:title>Title goes here – this sample illustrates a two-line title This is a sample sub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MCOA_FontSize">
    <vt:lpwstr>Medium</vt:lpwstr>
  </property>
  <property fmtid="{D5CDD505-2E9C-101B-9397-08002B2CF9AE}" pid="3" name="MMCOA_Template">
    <vt:lpwstr>\MMC Medium Fonts.pot</vt:lpwstr>
  </property>
</Properties>
</file>